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54B-00BB-4D1C-B63F-70C01E726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DAF2-E0BA-4067-9E60-CD089C055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links to CWS website from CB home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E5FFB92-EB1C-4C66-A13B-CE035C542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11 and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 jobs and job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or 4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e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9’s: If taking Civics/Careers in summer school,  put these courses into grade 11 (will remove later) and this will allow you to put in another elective in grade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AE9-AAA2-4FF6-AC89-40425DAF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B95-B022-4C00-80AB-A4359468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D17-93EC-4E8D-B58E-2ACCE945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8CD-7977-42AE-A7E7-BF138BF9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B024-B946-4F69-95E3-F5308D03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4A24-2B14-4A3A-B041-8088A70E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17A-2DEA-484A-B5C5-65173C2C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F834-20DA-4C7D-B946-9A7B8BFE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0BA6-5E83-47CA-8518-D11B1970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2765-56C5-4674-B31A-55033E27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B3FF-BA01-49BD-A5E9-16EFC470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45F-07F2-4522-8C08-95B66ECC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3270-379F-42F1-A381-CECDA66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E3CB-E1CE-4930-855B-A980788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3BBA-00E0-4283-9334-4416110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B4E1-9DB9-4703-8B88-C7BD5718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019E-EC03-4A18-B72B-3E93DF17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FA1-02DA-4030-BE14-E277D64C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235-8173-40AF-8234-8999ED32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62A-3845-48EF-937D-158240A4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E7B-0E7F-4E45-A703-4017AA27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125-7095-41BB-8A4D-47CFE03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AFB-314F-4841-8794-B946D09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97F-F048-4830-83B8-2415D6A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BFE-917D-4BF7-95B5-A8D0B7283A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D654-A07A-475B-9B88-8700626D11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ntariocolleges.ca/" TargetMode="External"/><Relationship Id="rId2" Type="http://schemas.openxmlformats.org/officeDocument/2006/relationships/hyperlink" Target="http://www.electronicinfo.ca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olonelby.com/teachers/canadianandworldstud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olonelby.com/" TargetMode="External"/><Relationship Id="rId2" Type="http://schemas.openxmlformats.org/officeDocument/2006/relationships/hyperlink" Target="http://ibcb.ca/ibcourseguide20142015.pdf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16-20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/travel? Part-time studies/work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p year to upgra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Program tests (Math, Language, HOAE)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ulation agreements with universities – opportunity to continue from college into degree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Earn a Bachelor’s Degre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BSc, BCom, BA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SSD, ENG4U and specific program requir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um cut-off averages in specific courses for specific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rtfolios, test results, and/or interviews are required for certain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3886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Colle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BF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P4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80880" y="1600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Essent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3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4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4920" y="3886200"/>
          <a:ext cx="8534160" cy="1886040"/>
        </p:xfrm>
        <a:graphic>
          <a:graphicData uri="http://schemas.openxmlformats.org/drawingml/2006/table">
            <a:tbl>
              <a:tblPr/>
              <a:tblGrid>
                <a:gridCol w="1706400"/>
                <a:gridCol w="1706400"/>
                <a:gridCol w="1708200"/>
                <a:gridCol w="1706760"/>
                <a:gridCol w="1706400"/>
              </a:tblGrid>
              <a:tr h="486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– University (Specific Program Requiremen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28600" y="1600200"/>
          <a:ext cx="8686440" cy="1904760"/>
        </p:xfrm>
        <a:graphic>
          <a:graphicData uri="http://schemas.openxmlformats.org/drawingml/2006/table">
            <a:tbl>
              <a:tblPr/>
              <a:tblGrid>
                <a:gridCol w="1736640"/>
                <a:gridCol w="1737360"/>
                <a:gridCol w="1738440"/>
                <a:gridCol w="1737360"/>
                <a:gridCol w="1736640"/>
              </a:tblGrid>
              <a:tr h="515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Univer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F3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ience Op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1905120"/>
          <a:ext cx="8458200" cy="16938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28600" y="4267080"/>
          <a:ext cx="8534520" cy="255132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483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S4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.  PrerequisiteSNC2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standing your Credit Counselling Summar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nadian World Studies and Human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D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, Politics and 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W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PW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80880" y="3200400"/>
          <a:ext cx="8534520" cy="18860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86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uma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P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T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BV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B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E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859040"/>
                <a:gridCol w="152388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P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814400"/>
                <a:gridCol w="16002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ama and Musical Thea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A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0880" y="3200400"/>
          <a:ext cx="8534520" cy="18860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387440"/>
                <a:gridCol w="2133720"/>
                <a:gridCol w="1600200"/>
              </a:tblGrid>
              <a:tr h="494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1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2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3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J3M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vocal jazz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4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olog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371600"/>
          <a:ext cx="8458200" cy="18050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5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chnolog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80880" y="4114800"/>
          <a:ext cx="8458200" cy="2451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7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disciplinary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MS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C4U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Media:  A Critical Approach to Journa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80880" y="32004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4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ersion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Phys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4920" y="1523880"/>
          <a:ext cx="8458200" cy="2465640"/>
        </p:xfrm>
        <a:graphic>
          <a:graphicData uri="http://schemas.openxmlformats.org/drawingml/2006/table">
            <a:tbl>
              <a:tblPr/>
              <a:tblGrid>
                <a:gridCol w="1690560"/>
                <a:gridCol w="1967040"/>
                <a:gridCol w="1600200"/>
                <a:gridCol w="1509480"/>
                <a:gridCol w="1690920"/>
              </a:tblGrid>
              <a:tr h="402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1OP/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2O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2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3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4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uidance and Career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1523880"/>
          <a:ext cx="8458200" cy="21351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000"/>
                <a:gridCol w="1690920"/>
              </a:tblGrid>
              <a:tr h="414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eer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1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2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C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WL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N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usiness and Computer Stud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M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H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358128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 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-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429000" cy="2400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486240" cy="240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419640" cy="243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"/>
          <p:cNvPicPr/>
          <p:nvPr/>
        </p:nvPicPr>
        <p:blipFill>
          <a:blip r:embed="rId4"/>
          <a:stretch/>
        </p:blipFill>
        <p:spPr>
          <a:xfrm>
            <a:off x="4800600" y="3924360"/>
            <a:ext cx="349560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4382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enticeship, College, University, and Workplace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the OSSD plus a program record transcri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Rectangle 43"/>
          <p:cNvGraphicFramePr/>
          <p:nvPr/>
        </p:nvGraphicFramePr>
        <p:xfrm>
          <a:off x="990720" y="1752480"/>
          <a:ext cx="69339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Rectangle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9339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Option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 contract for what you want to take next ye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research your college and university requirem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ask and consider the advice of your teach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an appointment with your guidance counselor to discuss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we can not, we will contact you with alternate opportunities or use your alternate cho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Option Sheet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209680"/>
            <a:ext cx="6172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areer Cru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-76320" y="0"/>
          <a:ext cx="944892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44892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ibcb.ca/ibcourseguide20142015.pdf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will begin 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y 1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can be completed online through Career Cruising.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are taking a summer school course, identify the course in the space provi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-up and Reach Ahead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out a planning sh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 your personal bal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decisions are about you, so do not give up on the opportunity to speak 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Selection Due Da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hursday, February 18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mit to classroom teacher for this pres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geography – grade 9; history – grade 10; TOK – IB1/grade 11; English – grade 1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ing the C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2D = Grade 10 English Acade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C 2DF = Grade 10 Science Academic, Imm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FM2P = Grade 10 Math Appl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3U = Grade 11 Biology 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GJ3M = Grade 11  Communication Tech College/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MI3C = Grade 11 Marketing Colle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F3O = Grade 11 Fitness  O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credits in English (1 credit per gra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credits in Mathematics (1 credit in Grade 11 or 1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credits in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the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Health and Physical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French as a Secon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areer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iv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English, or French as a Second Language, or a Native language, or a Classical or an International language, or Social Sciences and the Humanities, or Canadian and World Studies, or Guidance and Career Education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Health and Physical Education, or the Arts, or Business Studies, or French as a Second Language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Science (Grade 11 or 12), or Technological Education, or French as a Second Language, or Computer Studies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C40894</cp:lastModifiedBy>
  <dcterms:modified xsi:type="dcterms:W3CDTF">2016-02-09T13:48:28Z</dcterms:modified>
  <cp:revision>92</cp:revision>
  <dc:subject/>
  <dc:title>Option sheets 2014-2015</dc:title>
</cp:coreProperties>
</file>